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781800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0"/>
            <a:ext cx="6782400" cy="9925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0"/>
            <a:ext cx="6781680" cy="9926640"/>
          </a:xfrm>
          <a:custGeom>
            <a:avLst/>
            <a:gdLst>
              <a:gd name="textAreaLeft" fmla="*/ 360 w 6781680"/>
              <a:gd name="textAreaRight" fmla="*/ 6781320 w 6781680"/>
              <a:gd name="textAreaTop" fmla="*/ 360 h 9926640"/>
              <a:gd name="textAreaBottom" fmla="*/ 9926280 h 9926640"/>
            </a:gdLst>
            <a:ahLst/>
            <a:rect l="textAreaLeft" t="textAreaTop" r="textAreaRight" b="textAreaBottom"/>
            <a:pathLst>
              <a:path w="21600" h="31616">
                <a:moveTo>
                  <a:pt x="5" y="0"/>
                </a:moveTo>
                <a:arcTo wR="5" hR="5" stAng="16200000" swAng="-5400000"/>
                <a:lnTo>
                  <a:pt x="0" y="31611"/>
                </a:lnTo>
                <a:arcTo wR="5" hR="5" stAng="10800000" swAng="-5400000"/>
                <a:lnTo>
                  <a:pt x="21595" y="31616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0" y="0"/>
            <a:ext cx="6781680" cy="9928080"/>
          </a:xfrm>
          <a:custGeom>
            <a:avLst/>
            <a:gdLst>
              <a:gd name="textAreaLeft" fmla="*/ 360 w 6781680"/>
              <a:gd name="textAreaRight" fmla="*/ 6781320 w 678168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1621">
                <a:moveTo>
                  <a:pt x="5" y="0"/>
                </a:moveTo>
                <a:arcTo wR="5" hR="5" stAng="16200000" swAng="-5400000"/>
                <a:lnTo>
                  <a:pt x="0" y="31616"/>
                </a:lnTo>
                <a:arcTo wR="5" hR="5" stAng="10800000" swAng="-5400000"/>
                <a:lnTo>
                  <a:pt x="21595" y="3162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0" y="0"/>
            <a:ext cx="6783480" cy="9929880"/>
          </a:xfrm>
          <a:custGeom>
            <a:avLst/>
            <a:gdLst>
              <a:gd name="textAreaLeft" fmla="*/ 360 w 6783480"/>
              <a:gd name="textAreaRight" fmla="*/ 6783120 w 6783480"/>
              <a:gd name="textAreaTop" fmla="*/ 360 h 9929880"/>
              <a:gd name="textAreaBottom" fmla="*/ 9929520 h 9929880"/>
            </a:gdLst>
            <a:ahLst/>
            <a:rect l="textAreaLeft" t="textAreaTop" r="textAreaRight" b="textAreaBottom"/>
            <a:pathLst>
              <a:path w="21600" h="31618">
                <a:moveTo>
                  <a:pt x="5" y="0"/>
                </a:moveTo>
                <a:arcTo wR="5" hR="5" stAng="16200000" swAng="-5400000"/>
                <a:lnTo>
                  <a:pt x="0" y="31613"/>
                </a:lnTo>
                <a:arcTo wR="5" hR="5" stAng="10800000" swAng="-5400000"/>
                <a:lnTo>
                  <a:pt x="21595" y="31618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0" y="0"/>
            <a:ext cx="6781680" cy="9931320"/>
          </a:xfrm>
          <a:custGeom>
            <a:avLst/>
            <a:gdLst>
              <a:gd name="textAreaLeft" fmla="*/ 360 w 6781680"/>
              <a:gd name="textAreaRight" fmla="*/ 6781320 w 6781680"/>
              <a:gd name="textAreaTop" fmla="*/ 360 h 9931320"/>
              <a:gd name="textAreaBottom" fmla="*/ 9930960 h 9931320"/>
            </a:gdLst>
            <a:ahLst/>
            <a:rect l="textAreaLeft" t="textAreaTop" r="textAreaRight" b="textAreaBottom"/>
            <a:pathLst>
              <a:path w="21600" h="31631">
                <a:moveTo>
                  <a:pt x="5" y="0"/>
                </a:moveTo>
                <a:arcTo wR="5" hR="5" stAng="16200000" swAng="-5400000"/>
                <a:lnTo>
                  <a:pt x="0" y="31626"/>
                </a:lnTo>
                <a:arcTo wR="5" hR="5" stAng="10800000" swAng="-5400000"/>
                <a:lnTo>
                  <a:pt x="21595" y="3163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0"/>
            <a:ext cx="6781680" cy="9931320"/>
          </a:xfrm>
          <a:custGeom>
            <a:avLst/>
            <a:gdLst>
              <a:gd name="textAreaLeft" fmla="*/ 360 w 6781680"/>
              <a:gd name="textAreaRight" fmla="*/ 6781320 w 6781680"/>
              <a:gd name="textAreaTop" fmla="*/ 360 h 9931320"/>
              <a:gd name="textAreaBottom" fmla="*/ 9930960 h 9931320"/>
            </a:gdLst>
            <a:ahLst/>
            <a:rect l="textAreaLeft" t="textAreaTop" r="textAreaRight" b="textAreaBottom"/>
            <a:pathLst>
              <a:path w="21600" h="31631">
                <a:moveTo>
                  <a:pt x="5" y="0"/>
                </a:moveTo>
                <a:arcTo wR="5" hR="5" stAng="16200000" swAng="-5400000"/>
                <a:lnTo>
                  <a:pt x="0" y="31626"/>
                </a:lnTo>
                <a:arcTo wR="5" hR="5" stAng="10800000" swAng="-5400000"/>
                <a:lnTo>
                  <a:pt x="21595" y="3163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0" y="0"/>
            <a:ext cx="6781680" cy="9931320"/>
          </a:xfrm>
          <a:custGeom>
            <a:avLst/>
            <a:gdLst>
              <a:gd name="textAreaLeft" fmla="*/ 360 w 6781680"/>
              <a:gd name="textAreaRight" fmla="*/ 6781320 w 6781680"/>
              <a:gd name="textAreaTop" fmla="*/ 360 h 9931320"/>
              <a:gd name="textAreaBottom" fmla="*/ 9930960 h 9931320"/>
            </a:gdLst>
            <a:ahLst/>
            <a:rect l="textAreaLeft" t="textAreaTop" r="textAreaRight" b="textAreaBottom"/>
            <a:pathLst>
              <a:path w="21600" h="31631">
                <a:moveTo>
                  <a:pt x="5" y="0"/>
                </a:moveTo>
                <a:arcTo wR="5" hR="5" stAng="16200000" swAng="-5400000"/>
                <a:lnTo>
                  <a:pt x="0" y="31626"/>
                </a:lnTo>
                <a:arcTo wR="5" hR="5" stAng="10800000" swAng="-5400000"/>
                <a:lnTo>
                  <a:pt x="21595" y="3163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0" y="0"/>
            <a:ext cx="6781680" cy="9931320"/>
          </a:xfrm>
          <a:custGeom>
            <a:avLst/>
            <a:gdLst>
              <a:gd name="textAreaLeft" fmla="*/ 360 w 6781680"/>
              <a:gd name="textAreaRight" fmla="*/ 6781320 w 6781680"/>
              <a:gd name="textAreaTop" fmla="*/ 360 h 9931320"/>
              <a:gd name="textAreaBottom" fmla="*/ 9930960 h 9931320"/>
            </a:gdLst>
            <a:ahLst/>
            <a:rect l="textAreaLeft" t="textAreaTop" r="textAreaRight" b="textAreaBottom"/>
            <a:pathLst>
              <a:path w="21600" h="31631">
                <a:moveTo>
                  <a:pt x="5" y="0"/>
                </a:moveTo>
                <a:arcTo wR="5" hR="5" stAng="16200000" swAng="-5400000"/>
                <a:lnTo>
                  <a:pt x="0" y="31626"/>
                </a:lnTo>
                <a:arcTo wR="5" hR="5" stAng="10800000" swAng="-5400000"/>
                <a:lnTo>
                  <a:pt x="21595" y="3163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0" y="0"/>
            <a:ext cx="6781680" cy="9931320"/>
          </a:xfrm>
          <a:custGeom>
            <a:avLst/>
            <a:gdLst>
              <a:gd name="textAreaLeft" fmla="*/ 360 w 6781680"/>
              <a:gd name="textAreaRight" fmla="*/ 6781320 w 6781680"/>
              <a:gd name="textAreaTop" fmla="*/ 360 h 9931320"/>
              <a:gd name="textAreaBottom" fmla="*/ 9930960 h 9931320"/>
            </a:gdLst>
            <a:ahLst/>
            <a:rect l="textAreaLeft" t="textAreaTop" r="textAreaRight" b="textAreaBottom"/>
            <a:pathLst>
              <a:path w="21600" h="31631">
                <a:moveTo>
                  <a:pt x="5" y="0"/>
                </a:moveTo>
                <a:arcTo wR="5" hR="5" stAng="16200000" swAng="-5400000"/>
                <a:lnTo>
                  <a:pt x="0" y="31626"/>
                </a:lnTo>
                <a:arcTo wR="5" hR="5" stAng="10800000" swAng="-5400000"/>
                <a:lnTo>
                  <a:pt x="21595" y="3163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30400" cy="5302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7160" bIns="4716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1"/>
          </p:nvPr>
        </p:nvSpPr>
        <p:spPr>
          <a:xfrm>
            <a:off x="3873600" y="-360"/>
            <a:ext cx="2930400" cy="5302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7160" bIns="47160" anchor="t">
            <a:noAutofit/>
          </a:bodyPr>
          <a:lstStyle>
            <a:lvl1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920880" y="762120"/>
            <a:ext cx="4962240" cy="3720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7160" bIns="47160" anchor="ctr">
            <a:noAutofit/>
          </a:bodyPr>
          <a:p>
            <a:pPr indent="0" algn="ctr">
              <a:lnSpc>
                <a:spcPct val="6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30240" y="4723920"/>
            <a:ext cx="4944960" cy="44989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2"/>
          </p:nvPr>
        </p:nvSpPr>
        <p:spPr>
          <a:xfrm>
            <a:off x="0" y="9454680"/>
            <a:ext cx="2930400" cy="4446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7160" bIns="47160" anchor="b">
            <a:noAutofit/>
          </a:bodyPr>
          <a:lstStyle>
            <a:lvl1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3"/>
          </p:nvPr>
        </p:nvSpPr>
        <p:spPr>
          <a:xfrm>
            <a:off x="3873600" y="9454680"/>
            <a:ext cx="2930400" cy="4446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7160" bIns="47160" anchor="b">
            <a:noAutofit/>
          </a:bodyPr>
          <a:lstStyle>
            <a:lvl1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2F05E0-DA39-445C-B89F-99AEA9DF648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878040" y="762120"/>
            <a:ext cx="506088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body"/>
          </p:nvPr>
        </p:nvSpPr>
        <p:spPr>
          <a:xfrm>
            <a:off x="929880" y="4724280"/>
            <a:ext cx="494676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878040" y="762120"/>
            <a:ext cx="506088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body"/>
          </p:nvPr>
        </p:nvSpPr>
        <p:spPr>
          <a:xfrm>
            <a:off x="929880" y="4724280"/>
            <a:ext cx="494676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878040" y="762120"/>
            <a:ext cx="506088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body"/>
          </p:nvPr>
        </p:nvSpPr>
        <p:spPr>
          <a:xfrm>
            <a:off x="929880" y="4724280"/>
            <a:ext cx="494676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878040" y="762120"/>
            <a:ext cx="506088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body"/>
          </p:nvPr>
        </p:nvSpPr>
        <p:spPr>
          <a:xfrm>
            <a:off x="929880" y="4724280"/>
            <a:ext cx="494676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878040" y="762120"/>
            <a:ext cx="506088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body"/>
          </p:nvPr>
        </p:nvSpPr>
        <p:spPr>
          <a:xfrm>
            <a:off x="929880" y="4724280"/>
            <a:ext cx="494676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878040" y="762120"/>
            <a:ext cx="506088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body"/>
          </p:nvPr>
        </p:nvSpPr>
        <p:spPr>
          <a:xfrm>
            <a:off x="929880" y="4724280"/>
            <a:ext cx="494676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878040" y="762120"/>
            <a:ext cx="506088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body"/>
          </p:nvPr>
        </p:nvSpPr>
        <p:spPr>
          <a:xfrm>
            <a:off x="929880" y="4724280"/>
            <a:ext cx="494676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878040" y="762120"/>
            <a:ext cx="506088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body"/>
          </p:nvPr>
        </p:nvSpPr>
        <p:spPr>
          <a:xfrm>
            <a:off x="929880" y="4724280"/>
            <a:ext cx="494676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878040" y="762120"/>
            <a:ext cx="506088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body"/>
          </p:nvPr>
        </p:nvSpPr>
        <p:spPr>
          <a:xfrm>
            <a:off x="929880" y="4724280"/>
            <a:ext cx="494676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878040" y="762120"/>
            <a:ext cx="506088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body"/>
          </p:nvPr>
        </p:nvSpPr>
        <p:spPr>
          <a:xfrm>
            <a:off x="929880" y="4724280"/>
            <a:ext cx="494676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878040" y="762120"/>
            <a:ext cx="506088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body"/>
          </p:nvPr>
        </p:nvSpPr>
        <p:spPr>
          <a:xfrm>
            <a:off x="929880" y="4724280"/>
            <a:ext cx="494676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878040" y="762120"/>
            <a:ext cx="506088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body"/>
          </p:nvPr>
        </p:nvSpPr>
        <p:spPr>
          <a:xfrm>
            <a:off x="929880" y="4724280"/>
            <a:ext cx="494676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878040" y="762120"/>
            <a:ext cx="506088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body"/>
          </p:nvPr>
        </p:nvSpPr>
        <p:spPr>
          <a:xfrm>
            <a:off x="929880" y="4724280"/>
            <a:ext cx="494676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878040" y="762120"/>
            <a:ext cx="506088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body"/>
          </p:nvPr>
        </p:nvSpPr>
        <p:spPr>
          <a:xfrm>
            <a:off x="929880" y="4724280"/>
            <a:ext cx="494676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5980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598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440" y="4191120"/>
            <a:ext cx="77598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5980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8648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1640" y="1981080"/>
            <a:ext cx="378648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440" y="4191120"/>
            <a:ext cx="378648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1640" y="4191120"/>
            <a:ext cx="378648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5980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4984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09120" y="1981080"/>
            <a:ext cx="24984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32800" y="1981080"/>
            <a:ext cx="24984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440" y="4191120"/>
            <a:ext cx="24984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09120" y="4191120"/>
            <a:ext cx="24984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32800" y="4191120"/>
            <a:ext cx="24984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5980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59800" cy="423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5980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59800" cy="42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5980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86480" cy="42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1640" y="1981080"/>
            <a:ext cx="3786480" cy="42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5980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685440" y="463320"/>
            <a:ext cx="7759800" cy="65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66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5980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8648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1640" y="1981080"/>
            <a:ext cx="3786480" cy="42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440" y="4191120"/>
            <a:ext cx="378648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5980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59800" cy="423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5980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86480" cy="42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1640" y="1981080"/>
            <a:ext cx="378648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61640" y="4191120"/>
            <a:ext cx="378648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5980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8648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1640" y="1981080"/>
            <a:ext cx="378648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440" y="4191120"/>
            <a:ext cx="77598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5980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598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85440" y="4191120"/>
            <a:ext cx="77598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5980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8648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1640" y="1981080"/>
            <a:ext cx="378648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440" y="4191120"/>
            <a:ext cx="378648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61640" y="4191120"/>
            <a:ext cx="378648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5980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4984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09120" y="1981080"/>
            <a:ext cx="24984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932800" y="1981080"/>
            <a:ext cx="24984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85440" y="4191120"/>
            <a:ext cx="24984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09120" y="4191120"/>
            <a:ext cx="24984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5932800" y="4191120"/>
            <a:ext cx="24984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5980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59800" cy="42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5980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86480" cy="42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1640" y="1981080"/>
            <a:ext cx="3786480" cy="42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5980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440" y="463320"/>
            <a:ext cx="7759800" cy="65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66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5980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8648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1640" y="1981080"/>
            <a:ext cx="3786480" cy="42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440" y="4191120"/>
            <a:ext cx="378648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5980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86480" cy="42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1640" y="1981080"/>
            <a:ext cx="378648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1640" y="4191120"/>
            <a:ext cx="378648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5980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8648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1640" y="1981080"/>
            <a:ext cx="378648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440" y="4191120"/>
            <a:ext cx="77598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5980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59800" cy="42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0120" indent="-330120">
              <a:lnSpc>
                <a:spcPct val="66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66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66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66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66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66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66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8001000" y="632448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850A29-89B0-4024-95F1-C6CE5E815E4F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>
            <a:off x="8001000" y="632448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E0A75A-F19F-4EE8-8120-2532BE88E9B6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hyperlink" Target="mailto:Jean-Fran&#231;ois.Baschet@agriculture.gouv.fr" TargetMode="External"/><Relationship Id="rId4" Type="http://schemas.openxmlformats.org/officeDocument/2006/relationships/hyperlink" Target="mailto:Sylvain.Chabe-Ferret@cemagrefs.fr" TargetMode="External"/><Relationship Id="rId5" Type="http://schemas.openxmlformats.org/officeDocument/2006/relationships/hyperlink" Target="mailto:Sylvain.Chabe-Ferret@cemagrefs.fr" TargetMode="External"/><Relationship Id="rId6" Type="http://schemas.openxmlformats.org/officeDocument/2006/relationships/hyperlink" Target="mailto:Sylvain.Chabe-Ferret@cemagrefs.fr" TargetMode="External"/><Relationship Id="rId7" Type="http://schemas.openxmlformats.org/officeDocument/2006/relationships/hyperlink" Target="mailto:Julie.Subervie@supagrao.inra.fr" TargetMode="External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457200" y="4172760"/>
            <a:ext cx="8686800" cy="13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00779a"/>
                </a:solidFill>
                <a:latin typeface="Arial"/>
              </a:rPr>
              <a:t>Estimation des effets propres des mesures agroenvironnementales du PDRN 2000-2006 sur les pratiques des agriculte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600" spc="-1" strike="noStrike">
                <a:solidFill>
                  <a:srgbClr val="00779a"/>
                </a:solidFill>
                <a:latin typeface="Arial"/>
              </a:rPr>
              <a:t>Jean-François BASCHET (MAAP-SSP-CE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5714640"/>
            <a:ext cx="777240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779a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779a"/>
                </a:solidFill>
                <a:latin typeface="Arial"/>
              </a:rPr>
              <a:t>Expert Committee on Evaluation of Rural Development Programmes</a:t>
            </a:r>
            <a:br>
              <a:rPr sz="1800"/>
            </a:br>
            <a:r>
              <a:rPr b="1" lang="en-US" sz="1800" spc="-1" strike="noStrike">
                <a:solidFill>
                  <a:srgbClr val="00779a"/>
                </a:solidFill>
                <a:latin typeface="Arial"/>
              </a:rPr>
              <a:t>Fourth meeting – 15</a:t>
            </a:r>
            <a:r>
              <a:rPr b="1" lang="en-US" sz="1800" spc="-1" strike="noStrike" baseline="30000">
                <a:solidFill>
                  <a:srgbClr val="00779a"/>
                </a:solidFill>
                <a:latin typeface="Arial"/>
              </a:rPr>
              <a:t>th</a:t>
            </a:r>
            <a:r>
              <a:rPr b="1" lang="en-US" sz="1800" spc="-1" strike="noStrike">
                <a:solidFill>
                  <a:srgbClr val="00779a"/>
                </a:solidFill>
                <a:latin typeface="Arial"/>
              </a:rPr>
              <a:t> March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890880" y="2557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rcRect l="26197" t="20182" r="50255" b="41867"/>
          <a:stretch/>
        </p:blipFill>
        <p:spPr>
          <a:xfrm>
            <a:off x="3706920" y="1600200"/>
            <a:ext cx="1728720" cy="220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3890880" y="2557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rcRect l="26197" t="20182" r="50255" b="41867"/>
          <a:stretch/>
        </p:blipFill>
        <p:spPr>
          <a:xfrm>
            <a:off x="228600" y="0"/>
            <a:ext cx="914400" cy="11430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533520" y="1219320"/>
            <a:ext cx="8001000" cy="49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4.1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Principaux résultats </a:t>
            </a:r>
            <a:r>
              <a:rPr b="1" i="1" lang="fr-FR" sz="2400" spc="-1" strike="noStrike">
                <a:solidFill>
                  <a:srgbClr val="000000"/>
                </a:solidFill>
                <a:latin typeface="Arial"/>
              </a:rPr>
              <a:t>selon les me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+ Diversification des cul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Impact significatif sur le nombre de cultu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Impact faible sur la part de la SAU occupée par la culture dominante et sur l’indice de diversit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- Effet propre sur-estimé par comparaison “avec / sans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- Effet propre sous-estimé par comparaison “avant / après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+ Implantation de CIPAN 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(cultures intermédiaires pièges à nitrates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- l’effet est une différence de 10 ha par exploitation bénéficiair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- Effet propre sur-estimé  de 6 ha par comparaison “avec / sans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- Effet propre sur-estimé de 4 ha par comparaison “avant / après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+ Agriculture biologique (AB) 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: la quasi-totalité de l’accroissement de superficie en AB entre 2000 et 2005 est due à la MAE conversion à l’A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890880" y="2557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rcRect l="26197" t="20182" r="50255" b="41867"/>
          <a:stretch/>
        </p:blipFill>
        <p:spPr>
          <a:xfrm>
            <a:off x="228600" y="0"/>
            <a:ext cx="914400" cy="11430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33520" y="1219320"/>
            <a:ext cx="8001000" cy="52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4.2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Principaux résultats </a:t>
            </a:r>
            <a:r>
              <a:rPr b="1" i="1" lang="fr-FR" sz="2400" spc="-1" strike="noStrike">
                <a:solidFill>
                  <a:srgbClr val="000000"/>
                </a:solidFill>
                <a:latin typeface="Arial"/>
              </a:rPr>
              <a:t>selon les me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+ Gestion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de la fertilis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- Effet significatif sur l’enregistrement et le raisonnement des pratiqu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- Effet faible sur le niveau de fertilis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- Effet plus favorable sur le solde du bilan azot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+ Gestion de la protection phytosanita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- Effet significatif sur l’enregistrement et le raisonnement des pratiqu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- Effet faible sur le niveau d’utilisation de pesticides (indicateur de fréquence de traitement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+ Gestion extensive des prairies</a:t>
            </a:r>
            <a:r>
              <a:rPr b="1" i="1" lang="fr-FR" sz="18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mesures (“de masse”) difficiles à évalu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- Effet nul sur part de la STH dans la SA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- Effet positif sur STH et SAU en nivea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- Baisse forte de la SAU chez les jumeaux non bénéficiai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- Mesures “de masse” : trop peu de jumeaux + probabilité “d’effets de diffusion” </a:t>
            </a:r>
            <a:r>
              <a:rPr b="1" i="1" lang="fr-FR" sz="1400" spc="-1" strike="noStrike">
                <a:solidFill>
                  <a:srgbClr val="000000"/>
                </a:solidFill>
                <a:latin typeface="Arial"/>
              </a:rPr>
              <a:t>(pratiques des non-bénéficiaires influencés par la politique mise en place)</a:t>
            </a:r>
            <a:r>
              <a:rPr b="1" i="1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3890880" y="2557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rcRect l="26197" t="20182" r="50255" b="41867"/>
          <a:stretch/>
        </p:blipFill>
        <p:spPr>
          <a:xfrm>
            <a:off x="228600" y="0"/>
            <a:ext cx="914400" cy="114300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533520" y="1219320"/>
            <a:ext cx="8001000" cy="54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5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Enseignements tir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+ Travaux très lourds, plus longs que prévus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- Difficultés d’appariement des fichier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- Capacité et temps de calcu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+ Mesures difficiles à évaluer pour 2 raisons opposé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- Trop peu de bénéficiaires : précision faible (enquêtes par sondage pour les résulta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- “Trop” de bénéficiaires pour les mesures “de masse” : insuffisance de jumeaux statistiqu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+ Travaux très difficilement à la portée des évaluate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- Difficulté d’obtention des fichiers statistiqu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- Capacité à mener les travaux : compétences requises, temps, capacité de calcu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+ Travaux pouvant être très utiles, à mener par Services administratifs (évaluation et statistique) + Institut de recherche, en parallèle aux travaux conduits par les évaluate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3890880" y="2557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rcRect l="26197" t="20182" r="50255" b="41867"/>
          <a:stretch/>
        </p:blipFill>
        <p:spPr>
          <a:xfrm>
            <a:off x="228600" y="0"/>
            <a:ext cx="914400" cy="11430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533520" y="1219320"/>
            <a:ext cx="8001000" cy="340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6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Principales recommand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+ Faciliter les appariements (identifiant unique : No SIRET) : 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prévu pour FSS 2010 (les questions sur le bénéfice des aides du RD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+ Utilisation des enquêtes pratiques culturales 2011 à 2013 et amélioration de la précision  : 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“sur-échantilloner” les bénéficiai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+ Étudier la possibilité de mise en œuvre de “méthodes expérimentales” : 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garantir, </a:t>
            </a:r>
            <a:r>
              <a:rPr b="1" i="1" lang="fr-FR" sz="1600" spc="-1" strike="noStrike" u="sng">
                <a:solidFill>
                  <a:srgbClr val="000000"/>
                </a:solidFill>
                <a:uFillTx/>
                <a:latin typeface="Arial"/>
              </a:rPr>
              <a:t>a priori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, l’existence de bénéficiaires et de non bénéficiaires compar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90880" y="2557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rcRect l="26197" t="20182" r="50255" b="41867"/>
          <a:stretch/>
        </p:blipFill>
        <p:spPr>
          <a:xfrm>
            <a:off x="228600" y="0"/>
            <a:ext cx="914400" cy="11430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533520" y="1219320"/>
            <a:ext cx="8001000" cy="47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erci de votre atten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nta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8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Jean-François.Baschet@agriculture.gouv.f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8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Sylvain.Chabe-Ferret@</a:t>
            </a:r>
            <a:r>
              <a:rPr b="0" lang="en-GB" sz="1800" spc="-1" strike="noStrike" u="sng">
                <a:solidFill>
                  <a:srgbClr val="ccccff"/>
                </a:solidFill>
                <a:uFillTx/>
                <a:latin typeface="Arial"/>
                <a:hlinkClick r:id="rId5"/>
              </a:rPr>
              <a:t>cemagref</a:t>
            </a:r>
            <a:r>
              <a:rPr b="0" lang="en-GB" sz="1800" spc="-1" strike="noStrike" u="sng">
                <a:solidFill>
                  <a:srgbClr val="ccccff"/>
                </a:solidFill>
                <a:uFillTx/>
                <a:latin typeface="Arial"/>
                <a:hlinkClick r:id="rId6"/>
              </a:rPr>
              <a:t>.f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800" spc="-1" strike="noStrike" u="sng">
                <a:solidFill>
                  <a:srgbClr val="ccccff"/>
                </a:solidFill>
                <a:uFillTx/>
                <a:latin typeface="Arial"/>
                <a:hlinkClick r:id="rId7"/>
              </a:rPr>
              <a:t>Julie.Subervie@supagrao.inra.f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3890880" y="2557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rcRect l="26197" t="20182" r="50255" b="41867"/>
          <a:stretch/>
        </p:blipFill>
        <p:spPr>
          <a:xfrm>
            <a:off x="228600" y="0"/>
            <a:ext cx="914400" cy="1143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533520" y="1447920"/>
            <a:ext cx="8001000" cy="38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Plan de la pré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Contexte de l’étu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Objectifs et calendrier de l’étu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Travaux réalisé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Principaux résulta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Enseignements tiré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Principales recommand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890880" y="2557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rcRect l="26197" t="20182" r="50255" b="41867"/>
          <a:stretch/>
        </p:blipFill>
        <p:spPr>
          <a:xfrm>
            <a:off x="228600" y="0"/>
            <a:ext cx="914400" cy="11430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533520" y="1447920"/>
            <a:ext cx="8001000" cy="47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.1 Contexte de l’étu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+ Les MAE : 34 % des dépenses publiques du PDRN 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(3,4 milliards € sur 7 an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+ Un catalogue de types d’actions dans le PDRN : 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25 grands types (01 à 25) déclinés en environ 150 actions élémentaires (code à 4 chiffres + 1 lettr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+ Mise en oeuvre des actions par des dispositifs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- CTE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(contrats territoriaux d’exploitation), unique dispositif de dépa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MAE Rotationnelle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à partir de 200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PHAE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(prime herbagère agroenvironnementale), à partir de 200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CAD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(contrat d’agriculture durable), à partir de 200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3890880" y="2557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rcRect l="26197" t="20182" r="50255" b="41867"/>
          <a:stretch/>
        </p:blipFill>
        <p:spPr>
          <a:xfrm>
            <a:off x="228600" y="0"/>
            <a:ext cx="914400" cy="11430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533520" y="1219320"/>
            <a:ext cx="8001000" cy="49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1.2 Contexte de l’étu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+ 15 actions sur 150 : 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80 % des dépenses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Actions 19 et 20 (MAE “herbagères”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- Actions 08 (MAE “phytosanitaires”) et 09 (MAE “fertilisation”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- Action 21 (MAE conversion à l’agriculture biologiqu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+ Environ le tiers des exploitations professionnelles avec MAE :                     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50 000 CTE, 25 000 CAD, 55 000 PHAE, 7 000 Rotationn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+ Une superficie totale contractualisée de 9 millions ha 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(surface “développée”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) et une superficie “nette” de 7 millions ha 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(surface sans double comptes),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soit 25 % de la SAU françai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+ “Un zapping dans les dispositifs”, mais une grande constance entre les trois périodes 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(1993-1999, 2000-2006, 2007-2013) : environ 2/3 des dépenses pour le soutien à la gestion extensive de l’herb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890880" y="2557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rcRect l="26197" t="20182" r="50255" b="41867"/>
          <a:stretch/>
        </p:blipFill>
        <p:spPr>
          <a:xfrm>
            <a:off x="228600" y="0"/>
            <a:ext cx="914400" cy="11430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533520" y="1219320"/>
            <a:ext cx="8001000" cy="51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2.1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Objectifs et calendrier de l’étu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+ Des réalisations relativement importantes mais beaucoup d’interrogations quant aux effets réels sur les pratiques et sur l’état de l’environn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+ La question des effets : au cœur de l’évaluation ex-post à conduire en 2007-08 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(et des futures évaluations ex-po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+ Dépasser les comparaisons intuitives habituelles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i="1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- bénéficiaires / non bénéficiaires : biais de sé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- avant / après : biais tempor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+ Adapter les méthodes économétriques utilisées pour l’évaluation de certains programmes sociaux : aux USA, en Fran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3890880" y="2557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rcRect l="26197" t="20182" r="50255" b="41867"/>
          <a:stretch/>
        </p:blipFill>
        <p:spPr>
          <a:xfrm>
            <a:off x="228600" y="0"/>
            <a:ext cx="914400" cy="11430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533520" y="1219320"/>
            <a:ext cx="8001000" cy="53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2.2 Objectifs et calendrier de l’étu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+ Une étude confiée au CEMAGREF en 2 phas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- Compétence en matière d’indicateurs agroenvironnementau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- Aptitude à mettre en oeuvre les méthodes économétriqu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+ 1ère phase (mi 2007 - mi 2008) – 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Financement Ministère de l’agricul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- Expertise sur les indicateurs à utiliser pour l’estimation des effets : de résultats (pratiques agricoles) – d’impacts (état de l’environnemen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- Faisabilité d’utilisation des méthodes de match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2ème phase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(mi 2008 – fin 2009) : Mise en oeuvre de ces méthodes 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(appui à des travaux de recherche, dans le cadre de l’évaluation in-itiner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- Financement conjoint Ministère de l’agriculture – Ministère de l’écologi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- Séminaire de restitution : 14 janvier 2010 (80 personnes : évaluateurs, administrations gestionnaires, statisticiens agricoles, et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890880" y="2557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rcRect l="26197" t="20182" r="50255" b="41867"/>
          <a:stretch/>
        </p:blipFill>
        <p:spPr>
          <a:xfrm>
            <a:off x="228600" y="0"/>
            <a:ext cx="914400" cy="11430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533520" y="1219320"/>
            <a:ext cx="8001000" cy="40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3.1 Travaux réalis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+ Estimation des effets sur les </a:t>
            </a: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pratiques agricoles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(indicateurs de résulta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- complexité des liens entre pratiques agricoles et état de l’environnement + la question du tem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- robustesse statistique plus grande pour les indicateurs de résultats (pratiques agricoles)  que pour les indicateurs d’impact (état de l’environnemen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+ Reconstitution, </a:t>
            </a: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a posteriori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, de pratiques “contrefactuelles” : 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celles de non-bénéficiaires présentant, en moyenne, avant la mise en place de la politique, les mêmes caractéristiques observées que les bénéficiaires (“jumeaux statistiques”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3890880" y="2557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rcRect l="26197" t="20182" r="50255" b="41867"/>
          <a:stretch/>
        </p:blipFill>
        <p:spPr>
          <a:xfrm>
            <a:off x="228600" y="0"/>
            <a:ext cx="914400" cy="11430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533520" y="1219320"/>
            <a:ext cx="8001000" cy="458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3.2 Travaux réalis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Les différentes méthodes de comparaison et leurs limi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+ Méthode de matching simple : 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comparaison des pratiques entre bénéficiaires et non bénéficiaires “jumeaux “ (ou “matchés”), la même année, en fin de program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+ Méthode de matching en double différence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- Caractéristiques inobservées différentes influençant les pratiques (habileté managériale, “sensibilité” environnementale, etc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- Correction de la comparaison bénéficiaires / jumeaux par la </a:t>
            </a:r>
            <a:r>
              <a:rPr b="1" i="1" lang="fr-FR" sz="1600" spc="-1" strike="noStrike" u="sng">
                <a:solidFill>
                  <a:srgbClr val="000000"/>
                </a:solidFill>
                <a:uFillTx/>
                <a:latin typeface="Arial"/>
              </a:rPr>
              <a:t>différence de pratiques avant la mise en place de la politiq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+ Pour identifier les non bénéficiaires matchés</a:t>
            </a:r>
            <a:r>
              <a:rPr b="1" i="1" lang="fr-FR" sz="18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utilisation du score de propension (probabilité d’obtention d’une MAE prédite sur la base des caractéristiques observé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890880" y="2557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rcRect l="26197" t="20182" r="50255" b="41867"/>
          <a:stretch/>
        </p:blipFill>
        <p:spPr>
          <a:xfrm>
            <a:off x="228600" y="0"/>
            <a:ext cx="914400" cy="11430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533520" y="1219320"/>
            <a:ext cx="8001000" cy="53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3.3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Travaux réalis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Construction d’une base de données, par appariement de fichiers statistiques et de fichiers administratifs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+ les caractéristiques observées avant le lancement du dispositif (les variables de contrôle)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Recensement agricole 2000 (FSS 20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+ le statut de bénéficiaire ou non bénéficiaire du dispositif et le type de MAE (la variable de participation)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 : Fichiers administratifs des organismes payeu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+ le niveau de pratiques après et avant (dans la mesure du possible) le lancement du dispositif (les variables de résultats) : 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Enquêtes statistiqu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Arial"/>
              </a:rPr>
              <a:t>- Enquêtes sur les pratiques culturales grandes cultures 2001 et 2006 (gestion de </a:t>
            </a:r>
            <a:r>
              <a:rPr b="1" i="1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Arial"/>
              </a:rPr>
              <a:t>la fertilisation et de l’utilisation des produits phytosanitair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i="1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Arial"/>
              </a:rPr>
              <a:t>- Enquêtes sur la structure des exploitations agricoles (FSS 2000 et 2005) </a:t>
            </a:r>
            <a:r>
              <a:rPr b="1" i="1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Arial"/>
              </a:rPr>
              <a:t>(diversité de l’assolement, chargement, part de la SAU en prairies, surfaces en </a:t>
            </a:r>
            <a:r>
              <a:rPr b="1" i="1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Arial"/>
              </a:rPr>
              <a:t>CIPAN, linéaire de bandes enherbées, etc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i="1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est01</cp:lastModifiedBy>
  <dcterms:modified xsi:type="dcterms:W3CDTF">2010-03-10T13:18:27Z</dcterms:modified>
  <cp:revision>108</cp:revision>
  <dc:subject/>
  <dc:title>Présentation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748965669</vt:r8>
  </property>
  <property fmtid="{D5CDD505-2E9C-101B-9397-08002B2CF9AE}" pid="3" name="_AuthorEmail">
    <vt:lpwstr>s.lafiandra@politicheagricole.gov.it</vt:lpwstr>
  </property>
  <property fmtid="{D5CDD505-2E9C-101B-9397-08002B2CF9AE}" pid="4" name="_AuthorEmailDisplayName">
    <vt:lpwstr>Lafiandra Stefano</vt:lpwstr>
  </property>
  <property fmtid="{D5CDD505-2E9C-101B-9397-08002B2CF9AE}" pid="5" name="_EmailSubject">
    <vt:lpwstr>Slides incontro RRE_evaluation group del 15/03/2010</vt:lpwstr>
  </property>
</Properties>
</file>